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B1-3B11-4221-91D7-70A2F399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8A6-2AF0-4AD8-8881-9D96789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9E4-6566-4F81-9751-1C768E77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6AB-C9B8-4C3F-97B7-193B0E9C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A0C-4C7E-44FD-80E3-4A945447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971-75E8-49D9-9925-44C28A5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CCB-C3E8-48BB-97A7-459CFC2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6F7-8BCA-4E9C-8D0A-40F6095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A7C-DFD2-4D14-8839-364982B9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EF7-1442-479D-8E1E-A31C5075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B41-744D-4824-A0D4-BE1586B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AAF-E1D7-4147-8381-6FA5EC2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B15-CAC4-42C0-8BEA-1E0ACDE5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66680" y="-609480"/>
            <a:ext cx="12953880" cy="883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2895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ized Experiment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lav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 rot="10800000">
            <a:off x="531720" y="-382680"/>
            <a:ext cx="823752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on into one or another treatment or control grou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such a way that all individuals to be assigned have a known and equal probability of being assigned to any given group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ually produces groups that can be considered equal, there is no guarantee that groups will be equal on every relevant fac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chance, it is possible that the groups will be different in some important way, especially if the number of subjects in each group is below 3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0"/>
            <a:ext cx="70102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ified Random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assignment of subjects to one or more groups done in such a way as to ensure that each group will have certain characteristic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creases chances of equality on key factors and ensures equal numbers in subgro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quires relatively larger sample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7360" y="1522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 Variables to Experimental Desig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0666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6760" y="1066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247968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78920" y="1143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43864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440" y="5052960"/>
            <a:ext cx="181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ha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artic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7960" y="4976640"/>
            <a:ext cx="210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ng in a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952880"/>
            <a:ext cx="2073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dency of subjects to exert outstanding efforts because of being conscious of being in an experi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67280" cy="409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torial design is an experimental comparison design in which treatments or other variables are analyzed as levels of one or mor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6:24:06Z</dcterms:created>
  <dc:creator>Dennis</dc:creator>
  <dc:description/>
  <dc:language>en-US</dc:language>
  <cp:lastModifiedBy>Dennis</cp:lastModifiedBy>
  <dcterms:modified xsi:type="dcterms:W3CDTF">2011-03-02T14:50:16Z</dcterms:modified>
  <cp:revision>6</cp:revision>
  <dc:subject/>
  <dc:title>Slide 1</dc:title>
</cp:coreProperties>
</file>